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EC13-ABA4-4EF5-9C66-C1DCFF5B2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2215-1210-41D7-8479-4FAEEB2B7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C340-6C8C-4CA7-A169-89D7546A9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56E2-2257-46B0-9D30-4351D2813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1FDF-8328-4A91-93DB-E37754381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6D91-1054-451B-ABBD-80973868AC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1838-2677-48FB-9CE0-95BB4EE6FD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7C42-BCB7-487A-B334-325AD6068B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15BE-FD06-4DB6-B1B2-B410EC08C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DCFC-936E-4BC4-B4EA-A2BB436B8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5676-EC58-4CC5-ACCC-DE6064E850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FE82-A7ED-4353-ACF8-2B77596405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E402-7BDB-4B5D-8C36-F2D6121F88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FA0D-0BB6-4A56-8BEA-98A07ACA00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CA8F-E2DC-4F6F-9DD8-76AEF8AD1B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628D-61EB-4B1E-B40A-B893282C78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9339-35A6-4400-BE39-E046FE5232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97A2-551A-4510-BC50-5764EE8A47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E9F-3905-4385-850E-798198B101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575-A7BF-4CF5-873E-DDA827382E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A3B-81C0-49CC-A9AC-B1D64187E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F065-6D90-4930-85B6-DAA24D642A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3EE-4854-46DE-A661-26242CE9A9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06C-E530-4784-A81A-390E12DF5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B3B-7067-4BF4-9BFE-7F84FE75F4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5A1-0D7E-466F-BE3B-BDD547D289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9FD-322A-4B29-8928-BDC3064459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9F4-E780-4B69-B207-2793BD2152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106-8B40-48D6-A286-F45FD9873D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7C8-7EA8-4FD8-A2D8-4AFBB9622A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758-727E-43C1-8796-A2FEB91C4F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FCF00-39D2-4B9D-8D4E-28190428B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D6FF-59C4-421F-B284-43AD734AB6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D23A-6B0D-4DB6-9D57-9EE6B417D0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3F386-C832-4493-8CDF-5331575CFA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51946-888F-46CF-A604-1A1DE81F02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F6516-C6D9-4188-A3D6-C302CAA696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6FAD8-B9B9-4DAB-B044-6D8B62DA71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D4305-C588-459A-86EF-9BF2F36383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47B8E-8858-4E30-811A-87EE515523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C7C67-56D3-4FBB-82F9-E47C2C573A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CE6F6-2BA8-443B-A026-3681E0E61D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B9404-92C0-4B35-BE77-F9D838D71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5696-4F1C-422E-9B14-FD3AB643E2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40BA8-AC74-434B-9FCA-02CDC73133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294C-0C14-40B0-B05E-0909339D95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A212A-3E6F-4DB3-9EAE-821BE7F257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603AA-445C-4482-A33E-A849E39C4B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F2DE-F355-4AA5-B053-1E6F209B8E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B104-3760-4FE8-AFC6-76BAC8CDEB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0EC87-9975-44D5-8BFC-01B1642BDB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ECFF-2D8D-465A-97C5-42609AD90FA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DFDB-6989-4F5B-977B-C4C23817D3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2F03-1049-4940-9D33-4D02E7334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402B-D4AD-4FC4-B7B5-89D7809CBD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C321-52A1-414C-B5FD-46CCDA7200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2EDE8-F444-4561-A93C-36B6E6DA67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519BB-7D3E-48F2-AE44-21FBE5A9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A616-14E1-4DAC-BAF5-2612E0A6F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6A60-B94B-4142-85D8-2A072AC18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79D-4777-4995-92B1-E2BF62507C1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2648-29DD-4B16-B9FC-AC2D5364AA5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6DB-6B07-41D8-B19E-6876B767E55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BE0-0691-4385-9FF9-C999145984F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35C8-A246-4B92-8E1E-05538C59753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12920"/>
            <a:ext cx="498132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functions use the computer’s clock to display the current da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ither result can be formatted to show the date and/or the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ither of these functions has argu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of these functions are volati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67680" cy="115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1611360" y="2895480"/>
            <a:ext cx="64659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5" name="TextBox 5"/>
          <p:cNvSpPr/>
          <p:nvPr/>
        </p:nvSpPr>
        <p:spPr>
          <a:xfrm>
            <a:off x="609480" y="1447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time format is built using Excel format c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       m       s        AM/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67680" cy="11588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"/>
          <p:cNvSpPr/>
          <p:nvPr/>
        </p:nvSpPr>
        <p:spPr>
          <a:xfrm>
            <a:off x="1143000" y="3306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00200" y="2287440"/>
          <a:ext cx="6095880" cy="1920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stom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ddd, hh:mm: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d49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1/12 1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d492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te 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nday 10:0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3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EAE-3915-4F72-80E0-12B484343E3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457200" y="1295280"/>
            <a:ext cx="876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o determine an age, subtract the start or birth date from TODAY() or other relevant date. Divide those results by 365.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67057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762120" y="1393920"/>
            <a:ext cx="838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o determine time passed, subtract the start time from the end time. Multiply by 24 to convert the results to ho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346040" y="2624040"/>
            <a:ext cx="6883560" cy="33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3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3552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B75F-E3AE-4BC9-AC25-F3C77194FAF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604692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logical function is an Excel formula that calculates if something is true or fal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7 logical funct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ERR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pt for IF and IFERROR, logical functions show either TRUE or FALSE as their resul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sult of an IF formula can be a value or a lab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can use arithmetic, relational, or comparison operat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yntax for an IF function i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990720" y="38862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IF(logical_test, value_if_true, value_if_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914040" y="28951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ogical_tes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the first argument, the condition. It’s a statement or expression that is either true or false. The expression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5&gt;50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either true or false, depending on the value in cell C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094480" y="156852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5&gt;50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C5*2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C53D-0F18-4402-815F-ED03751978F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9144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tr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the second argument, is what the formula shows if the logical_test is true. In the example, if C5 is greater than 50, the value in cell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5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multiplied by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Value_if_true can be a formula, a value, text, or a cell refer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094480" y="156852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C5&gt;50,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5*2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066680" y="27432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fals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the third argument, is what the formula shows if the logical_test is not true, if it’s false. Value_if_false can be a formula, a value, text, or a cell reference. In the example, if the value in cell C5 is 50 or less, the result is the wor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942200" y="152388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C5&gt;50,C5*2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914400" y="2684520"/>
            <a:ext cx="76960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TextBox 3"/>
          <p:cNvSpPr/>
          <p:nvPr/>
        </p:nvSpPr>
        <p:spPr>
          <a:xfrm>
            <a:off x="914400" y="142236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cell M4 shows the word “invoice,” the amount due from the patient is multiplied by 5%. This result appears in the cell (N4, in this case). If the word “invoice” is not shown in cell M4, the result shows nothing (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" 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5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86200" cy="15112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085-BAC5-4612-89AF-7C4D412E2C3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8143920" cy="901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ell styl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formatting attributes for labels or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can contain font, number format, border, alignment, fill, and cell protection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cell style is name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Cell Styles button           to see the Cell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487840" y="4486320"/>
            <a:ext cx="414360" cy="4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600200" y="1517760"/>
            <a:ext cx="6477120" cy="465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6" name="Oval 4"/>
          <p:cNvSpPr/>
          <p:nvPr/>
        </p:nvSpPr>
        <p:spPr>
          <a:xfrm>
            <a:off x="1600200" y="5410080"/>
            <a:ext cx="11430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43920" cy="1158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ate your own cell style by choosing New Cell Style in the Cell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me the style and click Format. Make your choi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r saved style names appear at the top of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edit a style, cells formatted by it are automatically reformat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7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7C56-E9D2-40D3-A852-5AEFE625484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19324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se logical functions show either TRUE or FALSE as the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are often used as arguments for other functions (known as “nesting” function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enable you to check for multiple condi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2057400" y="2030400"/>
            <a:ext cx="6939000" cy="42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TextBox 3"/>
          <p:cNvSpPr/>
          <p:nvPr/>
        </p:nvSpPr>
        <p:spPr>
          <a:xfrm>
            <a:off x="533520" y="1219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cell I4 shows astigmatism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f cell J4 shows farsighted, cell L4 will show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9810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760F-F1BB-4358-8BB6-03349FFE20F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598320" y="2362320"/>
            <a:ext cx="8393400" cy="24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800280" y="2590920"/>
            <a:ext cx="81975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Box 5"/>
          <p:cNvSpPr/>
          <p:nvPr/>
        </p:nvSpPr>
        <p:spPr>
          <a:xfrm>
            <a:off x="5335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cell I4 shows conjunctivitis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f cell J4 shows stye, cell M4 will show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19280" y="1528920"/>
            <a:ext cx="80438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1336680" y="4343400"/>
            <a:ext cx="689760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8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33960" cy="151128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4A1-1328-4E79-B4C5-4989D6D65B5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120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838080" y="1554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cel includes several commands to help you prepare a workbook for printing, for e-mailing, or for other forms of electronic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4724280" y="3719520"/>
            <a:ext cx="895320" cy="8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3276720" y="3695760"/>
            <a:ext cx="933480" cy="8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Picture 4" descr=""/>
          <p:cNvPicPr/>
          <p:nvPr/>
        </p:nvPicPr>
        <p:blipFill>
          <a:blip r:embed="rId4"/>
          <a:stretch/>
        </p:blipFill>
        <p:spPr>
          <a:xfrm>
            <a:off x="1981080" y="3719520"/>
            <a:ext cx="905040" cy="8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3" name="Picture 5" descr=""/>
          <p:cNvPicPr/>
          <p:nvPr/>
        </p:nvPicPr>
        <p:blipFill>
          <a:blip r:embed="rId5"/>
          <a:stretch/>
        </p:blipFill>
        <p:spPr>
          <a:xfrm>
            <a:off x="6172200" y="3943440"/>
            <a:ext cx="157176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120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age brea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code in a worksheet that tells the printer to start a new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serts automatic page breaks based on the paper size, the margins, the column widths, the font size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insert and delete manual page breaks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4388760" y="18432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nual 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846440" y="18432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utomatic 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622440" y="2535120"/>
            <a:ext cx="829440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Line 10"/>
          <p:cNvSpPr/>
          <p:nvPr/>
        </p:nvSpPr>
        <p:spPr>
          <a:xfrm>
            <a:off x="5715000" y="2203560"/>
            <a:ext cx="10666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3673440" y="2206800"/>
            <a:ext cx="89856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2133720" y="442764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Breaks button is on the Page Layout command tab in the Page Setup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619272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int titles repeat column or row labels on each printed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6076800" cy="41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1082520" y="2506680"/>
            <a:ext cx="594000" cy="54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2357280" y="1395360"/>
            <a:ext cx="4338720" cy="49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6783480" y="567864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ottom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6201360" y="29401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igh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493320" y="17146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op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90160" y="32004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Lef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01400" y="13431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Heade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30560" y="56149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oote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2152800" y="1568520"/>
            <a:ext cx="5331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3"/>
          <p:cNvSpPr/>
          <p:nvPr/>
        </p:nvSpPr>
        <p:spPr>
          <a:xfrm flipH="1">
            <a:off x="6324120" y="19065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2590920" y="3390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5"/>
          <p:cNvSpPr/>
          <p:nvPr/>
        </p:nvSpPr>
        <p:spPr>
          <a:xfrm flipH="1">
            <a:off x="5943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6"/>
          <p:cNvSpPr/>
          <p:nvPr/>
        </p:nvSpPr>
        <p:spPr>
          <a:xfrm flipH="1">
            <a:off x="6229440" y="5886360"/>
            <a:ext cx="60480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2152800" y="582300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297400" y="11826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lumn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4636800" y="1395360"/>
            <a:ext cx="77004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>
            <a:off x="5486400" y="1468440"/>
            <a:ext cx="14760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date, Excel usually assigns its default date format. Depending on what you key, however, it may assign a format that more closely resembles what you key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33720" y="3429000"/>
          <a:ext cx="5029200" cy="1554120"/>
        </p:xfrm>
        <a:graphic>
          <a:graphicData uri="http://schemas.openxmlformats.org/drawingml/2006/table">
            <a:tbl>
              <a:tblPr/>
              <a:tblGrid>
                <a:gridCol w="2590560"/>
                <a:gridCol w="2438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anuary 15,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/01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/15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Box 3"/>
          <p:cNvSpPr/>
          <p:nvPr/>
        </p:nvSpPr>
        <p:spPr>
          <a:xfrm>
            <a:off x="1523880" y="5410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ou can reformat a date to a preset or a custom format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1143000" y="5862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set a different header or footer for the firs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rcRect l="6465" t="9785" r="963" b="2302"/>
          <a:stretch/>
        </p:blipFill>
        <p:spPr>
          <a:xfrm>
            <a:off x="1523880" y="1752480"/>
            <a:ext cx="6400800" cy="39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Oval 3"/>
          <p:cNvSpPr/>
          <p:nvPr/>
        </p:nvSpPr>
        <p:spPr>
          <a:xfrm>
            <a:off x="2057400" y="2666880"/>
            <a:ext cx="12952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895320" y="212760"/>
            <a:ext cx="8559720" cy="860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138420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8467920" cy="7984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"/>
          <p:cNvSpPr/>
          <p:nvPr/>
        </p:nvSpPr>
        <p:spPr>
          <a:xfrm>
            <a:off x="762120" y="160020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fter you set the name and folder for saving the workbook, the Compatibility Checker runs. You can continue as well as copy the summary to a new sheet as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rcRect l="15524" t="4017" r="14012" b="7316"/>
          <a:stretch/>
        </p:blipFill>
        <p:spPr>
          <a:xfrm>
            <a:off x="4799160" y="1600200"/>
            <a:ext cx="3930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7961400" cy="846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7961400" cy="846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" descr=""/>
          <p:cNvPicPr/>
          <p:nvPr/>
        </p:nvPicPr>
        <p:blipFill>
          <a:blip r:embed="rId2"/>
          <a:stretch/>
        </p:blipFill>
        <p:spPr>
          <a:xfrm>
            <a:off x="3100320" y="1395360"/>
            <a:ext cx="5434200" cy="494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TextBox 2"/>
          <p:cNvSpPr/>
          <p:nvPr/>
        </p:nvSpPr>
        <p:spPr>
          <a:xfrm>
            <a:off x="533520" y="1676520"/>
            <a:ext cx="243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ublish the active sheet or the entire work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and times are common data typ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dates and times are automatically formatted with an appropriate style based on what you ke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stom date and time formats use codes to specify how the value appea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cause of Excel’s serial number system for dates, date and time arithmetic is poss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 and Time functions display or convert dates and times into various formats so that the values can be used as nee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DAY() and NOW() are volatile func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ell styl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formatting attributes for labels and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styles are coordinated with the document theme. They are listed in a gallery and are subject to Live Preview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move all formatting from a cell and return to the default Normal sty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your own cell styles and save them with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enables you to create formulas that test whether a condition is true and specify what should be shown or do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can show text in its result, it can calculate a value, or it can show a cell refer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, OR, and NOT are logical functions that show either TRUE or FALSE as a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breaks determine where a new printed page start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serts automatic page breaks based on the paper size, the margins, font size, and the amount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insert and delete your own page brea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Break Preview shows the page breaks as solid (manual) or dashed (automatic) blue li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508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685800" y="1371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date format is built using Excel format c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       m  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924200" y="2514600"/>
            <a:ext cx="561960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18960" y="15235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a worksheet requires more than one printed page, use Print Titles to repeat column or row headings on each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options to set different headers or footers on even and odd pages or on the first printed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rint each page number as well as the total number of pages in a worksheet as a header or a foo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6933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can be saved in Excel 97-2003 format for shar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Excel Compatibility Checker finds features and formats that may not work in Excel 97-2003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can be saved as a PDF file for viewing by any one who has Adobe Read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1523880" y="1905120"/>
          <a:ext cx="609624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stom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mm d, yy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883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8838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te displays 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anuary 1, 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time, you should key “am,” “pm,” or a colon to indicate that the value is a tim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090880" y="2562120"/>
          <a:ext cx="5029200" cy="2422800"/>
        </p:xfrm>
        <a:graphic>
          <a:graphicData uri="http://schemas.openxmlformats.org/drawingml/2006/table">
            <a:tbl>
              <a:tblPr/>
              <a:tblGrid>
                <a:gridCol w="2557440"/>
                <a:gridCol w="247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is assumed as 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:3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:3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is assumed as P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Box 3"/>
          <p:cNvSpPr/>
          <p:nvPr/>
        </p:nvSpPr>
        <p:spPr>
          <a:xfrm>
            <a:off x="2362320" y="51814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ou can reformat a time to a preset or custom format and specify a 12- or 24-hour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1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11720" cy="151128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683-E4C9-45F6-BC5A-30D03A68AE0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3448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371240" y="17524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cel’s date and time values use a serial number syste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1, 1900, is counted as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2, 1900, is counted as 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umbers are assigned values up to and including January 31, 999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8:15Z</dcterms:modified>
  <cp:revision>79</cp:revision>
  <dc:subject/>
  <dc:title>Microsoft office</dc:title>
</cp:coreProperties>
</file>